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0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1"/>
          </p:nvPr>
        </p:nvSpPr>
        <p:spPr>
          <a:xfrm>
            <a:off x="-36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230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45BE-722F-4021-A46B-BB9791B56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8C23E-0365-4803-9B33-D73E87038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68AAB-08DB-43D2-9B4B-EC5E94760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374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imes New Roman"/>
              </a:rPr>
              <a:t>DO Includes LA, UI, 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4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Times New Roman"/>
              </a:rPr>
              <a:t>LA-can find resources in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374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classroom, LMC, textbook, home, other people, experts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 / reinforce retrieval skills: Dewey/fiction/ABC order/guide words/table of contents/ind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and get th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F87E-83DA-4A9B-AF19-262BCA721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or LMS models finding the facts that are needed and recording the “treasure” words on a graphic organiz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will demonstrate this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children become more independent, they will take out the information they need independently. (later grad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will use the information recorded on the graphic organizer to write a paragraph, create a poster, make some kind of report; o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generated using computer software with the help of the computer resource teac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F95C-EB09-4C91-B407-59C52454A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earch Buddies can be upper grade students or volunte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lder students read the selected  source and help the younger students record the key information need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ome second grade students are ready to extract facts independently using a graphic organizer specific to the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The classroom teacher may team with the LMS and record the data on the blackboard to model the note taking process (More l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A1484-605E-46F1-9ED8-C352A05937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ynthesis will depend on the assig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It might be one product that all students complete--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tudents may be given a choice of products/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tudents Could work in pairs or tea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8000"/>
                </a:solidFill>
                <a:latin typeface="Times New Roman"/>
              </a:rPr>
              <a:t>Collaborate with the CRS for product to integrate technology into lesson/un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imple word docu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Kidpix  and kidspi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8000"/>
                </a:solidFill>
                <a:latin typeface="Times New Roman"/>
              </a:rPr>
              <a:t>Show where information came from: simple bibliographic format/stam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A6118-711E-456B-87A2-A80E69A46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check own work: look back at what the task/job w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Times New Roman"/>
              </a:rPr>
              <a:t>*Partners</a:t>
            </a:r>
            <a:r>
              <a:rPr b="1" lang="en-US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revie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f evaluation form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feedb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F739-6573-4FD8-AF56-2BA70E811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CK REVIEW OF THE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o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 blackboard, create a chart and have students create questions related to the ta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e the task to the final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p students identify resources to 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teacher/classroom teacher will identify the resource they wish to te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MS/teacher create rubric for evaluation and explain it to child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may complete a survey related to their products and the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8000"/>
                </a:solidFill>
                <a:latin typeface="Times New Roman"/>
              </a:rPr>
              <a:t>Read/listen, students raise hands when they hear the answer to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8000"/>
                </a:solidFill>
                <a:latin typeface="Times New Roman"/>
              </a:rPr>
              <a:t>Record facts that answer th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8000"/>
                </a:solidFill>
                <a:latin typeface="Times New Roman"/>
              </a:rPr>
              <a:t>Final 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8000"/>
                </a:solidFill>
                <a:latin typeface="Times New Roman"/>
              </a:rPr>
              <a:t>EV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66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6600cc"/>
                </a:solidFill>
                <a:latin typeface="Times New Roman"/>
              </a:rPr>
              <a:t>Use a rubric or surv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3512B-4BC3-4D54-A3C6-017926B958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llaborative effort between the classroom teacher and LMS stud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A70E-5204-4BFB-B2DD-4BEAA90087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ivity centers were placed in the media center one week before the unit actually beg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assroom teacher sent the students down to the media center in small gro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had their choice of many different activities.  The picture shows a craft center where the students came in to build a canoe.  First, they had to plan what they were supposed to do, then actually make the canoe, finally review their work.  Purpose is to introduce the students to the Super 3 in a casual setting and have them get excited about the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F738-BE5C-4983-91BC-CBEF43915E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everyone to join in this son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5564-1FEA-41B3-8E74-6F6C7A2936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te these in pairs after teacher and LMS modeled completing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storm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CF29-87AF-4531-9BAE-938CA10E9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storm resources they could use to answer their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the index and table of content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cher and LMS mod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525CB-E03B-4C5C-B289-A7AD1749D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will use a data collection chart which can develop into 2 column note taking in higher gra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C9C6-8D04-443E-ABC7-0B7DDECAA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graphic organizers- students used the learn section of their KW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ds into 2 column note ta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can work in pairs- one student reads the passage one sentence at a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ther student listens for treas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BA9F-6B72-47CB-BBE4-68B02EA638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Use stickie notes to limit ideas to 3-4 word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Use a graphic organizer to meet the assignmen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Research budd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LMS and classroom teacher model the note taking pro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Provide students with lots of practice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2003F-C637-4D43-9763-938A04046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Keep the task simple and age appropriate – “doabl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LMS and teacher will model how it is taught and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Use the Big6/Super3 vocabulary: task/location and access/using information/synthesis/evaluation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In K-2, the focus in on steps 1 and 6 (Plan/Revie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The process can be applied in all subject ar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00cc"/>
                </a:solidFill>
                <a:latin typeface="Times New Roman"/>
              </a:rPr>
              <a:t>The process is a framework for collaboration between the resource teachers and the classroom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26B3-F09E-4099-BD8F-3535238F7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working with the Super3, we use colors as clues to each of the 3 Ste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, we use red to remind the students to stop and think about the task, job or assign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 is green because students begin their work following their plan and work to complet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iew is blue. It indicates success for students who look at their completed work and match it to the task/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verything done? Complete? Neat? Is my name in appropriate location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need to make a habit of checking over work before turning it in and matching the end product with the pla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ubrics should be made for each assignment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8284-CC6B-4010-B96C-D0CC1D3006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uper3,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Pla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orporates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T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IS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 and 1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s will need guidance and instruction at this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can be fun: Try some Kagan strategies such as “think, pair, share”. Koosh ball toss will keep students on their to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raders can develop questions and begin to identify resources which will help with the ta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ategi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HL chart --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Help students relate the question to what is already know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uster or categorize ideas or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words or synonyms to look for or listen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trategies to use for PLAN-- I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ainstorm what resources could be used for the task –accept all possi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of possible resour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e teacher/LMS may define the task simply for K and 1</a:t>
            </a:r>
            <a:r>
              <a:rPr b="0" lang="en-US" sz="1200" spc="-1" strike="noStrike" baseline="30000">
                <a:solidFill>
                  <a:srgbClr val="ff0000"/>
                </a:solidFill>
                <a:latin typeface="Times New Roman"/>
              </a:rPr>
              <a:t>st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gr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They may also select the resource and use the process to teach specific ski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234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DDAB-699A-4EAF-9780-FF9F9E49A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11720"/>
            <a:ext cx="5029200" cy="408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er students may not understand what a question is as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xplanation or review of these words may be helpfu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0D31-5E44-4D43-9474-03C096800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8E82-BB38-421E-B455-A3A941FF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F6D6-B3D7-4E68-9A4E-B64604AB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B374-699B-49EF-9B5F-0F32E6FAD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7BD9-7613-4713-810B-A7F8D13C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0410-AB43-4A2D-B7A2-E3715DA0C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61DBD-583B-4812-A14B-DFFC1C0D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9D5F-1FBD-4152-9431-5E5DB54F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82F52-DEE5-4FBC-892F-9DA39CFD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F0F62-38A0-47E9-B719-B50DF9A82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3211-78E2-4D87-AEAD-B0BF3FF3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6861-AB1E-43C4-B5B2-FEA790D02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74C2-F17F-43A8-A6CC-E47A7252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2FDB2-997B-409F-80B2-3B6D5EB4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308E-E5D3-413B-88C3-2F60BF954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77282-BC8D-44A8-B699-B6C7BFBFF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20DC-2404-4DF5-A10E-0E621AEE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07B1C-3A72-4B33-B932-1C423BE1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33D106-4141-4284-A9EE-49862467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395D89-5EA4-43C2-8B13-BB11D4CD3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7E001-9502-4601-BD21-51DBC8F77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EBF10-E102-455F-A032-DFC3F7ED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9EB3-BE91-44F9-A34C-764DAA9CF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2D33E-1914-4908-87D9-DD4604D9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E8B6C-75A0-4AD0-8A27-AAFACEBC1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3495A-3E60-48F2-9C6C-0CBAA646F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0BCC1-2E87-4A17-A85F-76E51ECA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A8B26-7C1E-47A6-9ED5-6B7C444C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68E61-5538-491E-B07F-E728333CC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CAA11D-D4A5-4BB9-9EA3-7498411B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E908-D6E9-485E-8E35-16201EE56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9548-DE75-4244-AC9A-189D56E0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6570-A4AE-41C1-87A1-6AACA122A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30BD-1FBF-4D2F-9E5B-2DA414D9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8E54-BA6E-4CE2-A8E7-316CC6080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AA25-5AC9-4AE8-ADF2-FA7273436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8B48-AF14-4299-930E-6508AF20F76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160"/>
                    <a:gd name="textAreaBottom" fmla="*/ 695520 h 69516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>
                    <a:gd name="textAreaLeft" fmla="*/ 0 w 801720"/>
                    <a:gd name="textAreaRight" fmla="*/ 802080 w 801720"/>
                    <a:gd name="textAreaTop" fmla="*/ 0 h 1425600"/>
                    <a:gd name="textAreaBottom" fmla="*/ 1425960 h 142560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>
                    <a:gd name="textAreaLeft" fmla="*/ 0 w 1203480"/>
                    <a:gd name="textAreaRight" fmla="*/ 1203840 w 120348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>
                    <a:gd name="textAreaLeft" fmla="*/ 0 w 268200"/>
                    <a:gd name="textAreaRight" fmla="*/ 268560 w 26820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>
                    <a:gd name="textAreaLeft" fmla="*/ 0 w 287640"/>
                    <a:gd name="textAreaRight" fmla="*/ 288000 w 28764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>
                    <a:gd name="textAreaLeft" fmla="*/ 0 w 284040"/>
                    <a:gd name="textAreaRight" fmla="*/ 284400 w 284040"/>
                    <a:gd name="textAreaTop" fmla="*/ 0 h 218880"/>
                    <a:gd name="textAreaBottom" fmla="*/ 219240 h 21888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2D798-BD7D-49CE-B9BB-B60F4298F3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050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Group 2056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2057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Freeform 2058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2059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Group 2060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2061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2062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Freeform 2063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Freeform 2064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2065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Group 2066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0" name="Freeform 2067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068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069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>
                <a:gd name="textAreaLeft" fmla="*/ 0 w 660600"/>
                <a:gd name="textAreaRight" fmla="*/ 660960 w 66060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oup 2070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4" name="Freeform 2071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840"/>
                  <a:gd name="textAreaBottom" fmla="*/ 97200 h 9684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Freeform 2072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3920"/>
                  <a:gd name="textAreaBottom" fmla="*/ 494280 h 4939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Freeform 2073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074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>
                  <a:gd name="textAreaLeft" fmla="*/ 0 w 99720"/>
                  <a:gd name="textAreaRight" fmla="*/ 100080 w 99720"/>
                  <a:gd name="textAreaTop" fmla="*/ 0 h 187560"/>
                  <a:gd name="textAreaBottom" fmla="*/ 187920 h 18756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075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9" name="Freeform 2076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2077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9702-5E21-43E2-84B7-0A67FE26A97F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hyperlink" Target="mailto:koch@vbschools.com" TargetMode="External"/><Relationship Id="rId2" Type="http://schemas.openxmlformats.org/officeDocument/2006/relationships/hyperlink" Target="mailto:ejdlieser@att.net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66680" y="-228960"/>
            <a:ext cx="7772400" cy="2057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Comic Sans MS"/>
              </a:rPr>
              <a:t>Super3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447920" y="220932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Presented b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Jean Koch, LM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Emmy Lieser, ODU graduate stud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VEM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November 19-20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00"/>
                </a:solidFill>
                <a:latin typeface="Comic Sans MS"/>
              </a:rPr>
              <a:t>DO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3047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Where will I find what I need? (</a:t>
            </a:r>
            <a:r>
              <a:rPr b="0" i="1" lang="en-US" sz="2800" spc="-1" strike="noStrike">
                <a:solidFill>
                  <a:srgbClr val="009900"/>
                </a:solidFill>
                <a:latin typeface="Comic Sans MS"/>
              </a:rPr>
              <a:t>LA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Picture 6" descr="bd04907_"/>
          <p:cNvPicPr/>
          <p:nvPr/>
        </p:nvPicPr>
        <p:blipFill>
          <a:blip r:embed="rId1"/>
          <a:stretch/>
        </p:blipFill>
        <p:spPr>
          <a:xfrm>
            <a:off x="3809880" y="1523880"/>
            <a:ext cx="1752840" cy="1219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DO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What information Can I Use?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UI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How can I put my information together? </a:t>
            </a:r>
            <a:r>
              <a:rPr b="0" i="1" lang="en-US" sz="2800" spc="-1" strike="noStrike">
                <a:solidFill>
                  <a:srgbClr val="008000"/>
                </a:solidFill>
                <a:latin typeface="Comic Sans MS"/>
              </a:rPr>
              <a:t>S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DO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“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Research Buddie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Classroom Teacher and LM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Comic Sans MS"/>
              </a:rPr>
              <a:t>Do</a:t>
            </a:r>
            <a:br>
              <a:rPr sz="4400"/>
            </a:b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(</a:t>
            </a:r>
            <a:r>
              <a:rPr b="1" i="1" lang="en-US" sz="3200" spc="-1" strike="noStrike">
                <a:solidFill>
                  <a:srgbClr val="008000"/>
                </a:solidFill>
                <a:latin typeface="Comic Sans MS"/>
              </a:rPr>
              <a:t>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Share what has been learned with class or other classroom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Collaborate with the CRS for product to integrate technology into lesson/uni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REVIEW</a:t>
            </a:r>
            <a:br>
              <a:rPr sz="32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4038120"/>
            <a:ext cx="77724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How Will I Know If I Did My Job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8" name="Picture 6" descr="so02015_"/>
          <p:cNvPicPr/>
          <p:nvPr/>
        </p:nvPicPr>
        <p:blipFill>
          <a:blip r:embed="rId1"/>
          <a:stretch/>
        </p:blipFill>
        <p:spPr>
          <a:xfrm>
            <a:off x="4038480" y="1219320"/>
            <a:ext cx="1143000" cy="95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-298440"/>
            <a:ext cx="77724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9900cc"/>
              </a:solidFill>
              <a:latin typeface="Arial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228600" y="152280"/>
          <a:ext cx="8610480" cy="708192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720800"/>
                <a:gridCol w="1722600"/>
                <a:gridCol w="172224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9900cc"/>
                          </a:solidFill>
                          <a:latin typeface="Comic Sans MS"/>
                        </a:rPr>
                        <a:t>Super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You Got It 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Almost There</a:t>
                      </a:r>
                      <a:r>
                        <a:rPr b="0" lang="en-US" sz="2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Getting Close 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ake Another Look 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Was able to restate the tas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Was able to state task with help from teache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Was able to state task with lots of he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ld not restate tas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9900"/>
                          </a:solidFill>
                          <a:latin typeface="Comic Sans MS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located, read &amp; took notes on 2 book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ita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Created &amp; presented repor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Could determine 2 sourc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Could locate 1 book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Could take notes with some he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Needed help with project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Could determine 1 source and locate one book with help from the teach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Needed help reading and taking notes and citation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Created report with help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ld not determine sourc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ld not locate sources or  take note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ld not complete assignment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Comic Sans MS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40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Filled out evaluation form by self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66ff"/>
                          </a:solidFill>
                          <a:latin typeface="Comic Sans MS"/>
                        </a:rPr>
                        <a:t>Filled out the evaluation form with hel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e5791f"/>
                          </a:solidFill>
                          <a:latin typeface="Comic Sans MS"/>
                        </a:rPr>
                        <a:t>Filled out evaluation form with lots of he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uld not complete evaluation form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Review Super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685800" y="1600200"/>
          <a:ext cx="7772400" cy="44766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2057400"/>
                <a:gridCol w="1828800"/>
              </a:tblGrid>
              <a:tr h="43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at are my research questions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hat resources do I need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cate information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Begin to work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Complete assignment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EVIE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Survey 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ubr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SUPER3:</a:t>
            </a:r>
            <a:br>
              <a:rPr sz="4400"/>
            </a:b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Some Examples…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Building Native American Houses Using the Super 3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grade gifted cluster cl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llaborative effo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bined Social Studies SOL with the Super 3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re-Activit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tivity centers in LM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48" name="Picture 4" descr="Craftposter"/>
          <p:cNvPicPr/>
          <p:nvPr/>
        </p:nvPicPr>
        <p:blipFill>
          <a:blip r:embed="rId1"/>
          <a:stretch/>
        </p:blipFill>
        <p:spPr>
          <a:xfrm>
            <a:off x="1905120" y="1828800"/>
            <a:ext cx="5715000" cy="42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To the tune of “Bingo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Here is a process I can use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Its name is </a:t>
            </a: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Super3-O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Its name is </a:t>
            </a: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Super3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3" name="Picture 4" descr="so02015_"/>
          <p:cNvPicPr/>
          <p:nvPr/>
        </p:nvPicPr>
        <p:blipFill>
          <a:blip r:embed="rId1"/>
          <a:stretch/>
        </p:blipFill>
        <p:spPr>
          <a:xfrm>
            <a:off x="7391520" y="495288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bd04907_"/>
          <p:cNvPicPr/>
          <p:nvPr/>
        </p:nvPicPr>
        <p:blipFill>
          <a:blip r:embed="rId2"/>
          <a:stretch/>
        </p:blipFill>
        <p:spPr>
          <a:xfrm>
            <a:off x="6172200" y="37339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BD00028_"/>
          <p:cNvPicPr/>
          <p:nvPr/>
        </p:nvPicPr>
        <p:blipFill>
          <a:blip r:embed="rId3"/>
          <a:stretch/>
        </p:blipFill>
        <p:spPr>
          <a:xfrm>
            <a:off x="4876920" y="3048120"/>
            <a:ext cx="86184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e3cd4"/>
                </a:solidFill>
                <a:latin typeface="Comic Sans MS"/>
              </a:rPr>
              <a:t>The Unit Tas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search the homes of the Powhatan, the Sioux, or the Pueblo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a model of the home based on their researc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ournal throughout the proces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6870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Comic Sans MS"/>
              </a:rPr>
              <a:t>Plan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609480" y="1371600"/>
          <a:ext cx="7696440" cy="4908600"/>
        </p:xfrm>
        <a:graphic>
          <a:graphicData uri="http://schemas.openxmlformats.org/drawingml/2006/table">
            <a:tbl>
              <a:tblPr/>
              <a:tblGrid>
                <a:gridCol w="2565360"/>
                <a:gridCol w="2565720"/>
                <a:gridCol w="2565360"/>
              </a:tblGrid>
              <a:tr h="169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do I know about my topic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do I want to know about my topic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did I learn about my topic?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ived in the Eastern Woodland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kind of house they lived in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nature did they use most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3" name="Rectangle 43"/>
          <p:cNvSpPr/>
          <p:nvPr/>
        </p:nvSpPr>
        <p:spPr>
          <a:xfrm flipV="1" rot="10818600">
            <a:off x="5943240" y="6171480"/>
            <a:ext cx="22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na, second 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Jour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533520" y="1295280"/>
          <a:ext cx="7696080" cy="522792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97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udent Com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MS 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4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-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am I supposed to 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Bild Native Amarican homes and study about the Powhtan Indian trib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do to make to what I learned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will make a wigwag home becouse that’s what I’m studying about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uper planning, Emma! You are now ready to begin your research on the Powhatan home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Jour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533520" y="1295280"/>
          <a:ext cx="7696080" cy="5251680"/>
        </p:xfrm>
        <a:graphic>
          <a:graphicData uri="http://schemas.openxmlformats.org/drawingml/2006/table">
            <a:tbl>
              <a:tblPr/>
              <a:tblGrid>
                <a:gridCol w="2565360"/>
                <a:gridCol w="2565360"/>
                <a:gridCol w="2565360"/>
              </a:tblGrid>
              <a:tr h="98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udent Com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MS 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2-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hat can I use to find what I need?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can use a book about the Powhatan Indian tribe and learn more about their life.You can also use a computer to find some reserch.If you use a book you need to look at the tabel of contenence.We looked at the kinds of homes the Powhatan Indians live i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b200"/>
                          </a:solidFill>
                          <a:latin typeface="Comic Sans MS"/>
                        </a:rPr>
                        <a:t>Excellent job, Emma!!!! You not only used great research skills, but you also communicated what you learned in a very clear way!!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762120"/>
            <a:ext cx="7772400" cy="22096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sh and Treasure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3352320" y="3048120"/>
            <a:ext cx="52578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O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To Take Notes Without Copying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UI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0" name="Picture 4" descr="bd05735_"/>
          <p:cNvPicPr/>
          <p:nvPr/>
        </p:nvPicPr>
        <p:blipFill>
          <a:blip r:embed="rId1"/>
          <a:stretch/>
        </p:blipFill>
        <p:spPr>
          <a:xfrm>
            <a:off x="762120" y="3505320"/>
            <a:ext cx="24746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sh and Treasure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174840" y="1828440"/>
            <a:ext cx="5207040" cy="35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we research, words are like the X on the pirate’s treasure map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only want those we need (treasure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 ignore the other words (tras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3" name="Picture 4" descr="bd05735_"/>
          <p:cNvPicPr/>
          <p:nvPr/>
        </p:nvPicPr>
        <p:blipFill>
          <a:blip r:embed="rId1"/>
          <a:stretch/>
        </p:blipFill>
        <p:spPr>
          <a:xfrm>
            <a:off x="380880" y="1219320"/>
            <a:ext cx="2475000" cy="4419360"/>
          </a:xfrm>
          <a:prstGeom prst="rect">
            <a:avLst/>
          </a:prstGeom>
          <a:ln w="0">
            <a:noFill/>
          </a:ln>
        </p:spPr>
      </p:pic>
      <p:sp>
        <p:nvSpPr>
          <p:cNvPr id="264" name="WordArt 5"/>
          <p:cNvSpPr txBox="1"/>
          <p:nvPr/>
        </p:nvSpPr>
        <p:spPr>
          <a:xfrm>
            <a:off x="1523880" y="4495680"/>
            <a:ext cx="457200" cy="72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easure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200040" y="3123720"/>
            <a:ext cx="5257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ds in a passage of text that answer the question.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(Pla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7" name="Picture 4" descr="bd05735_"/>
          <p:cNvPicPr/>
          <p:nvPr/>
        </p:nvPicPr>
        <p:blipFill>
          <a:blip r:embed="rId1"/>
          <a:stretch/>
        </p:blipFill>
        <p:spPr>
          <a:xfrm>
            <a:off x="762120" y="3505320"/>
            <a:ext cx="24746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ash Word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123720" y="2437920"/>
            <a:ext cx="52578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ll of the other words in the text that might be good words, but they DO NOT answer my questio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4" descr="bd05735_"/>
          <p:cNvPicPr/>
          <p:nvPr/>
        </p:nvPicPr>
        <p:blipFill>
          <a:blip r:embed="rId1"/>
          <a:stretch/>
        </p:blipFill>
        <p:spPr>
          <a:xfrm>
            <a:off x="762120" y="3505320"/>
            <a:ext cx="247464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Rules for Note tak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2" name="Picture 3" descr="bd05735_"/>
          <p:cNvPicPr/>
          <p:nvPr/>
        </p:nvPicPr>
        <p:blipFill>
          <a:blip r:embed="rId1"/>
          <a:stretch/>
        </p:blipFill>
        <p:spPr>
          <a:xfrm>
            <a:off x="152280" y="3809880"/>
            <a:ext cx="1471680" cy="16765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71600" y="1523520"/>
            <a:ext cx="7772400" cy="70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-345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and become familiar with your research questions. Underline key word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the article or source material one sentence at a ti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op at the end of each sentence and decide if there are any treasure word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-345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the treasure words in the appropriate place on your data collection for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 Powhatan people lived in comfortable homes. Traditional Powhatan homes were rectangle-shaped with rounded roof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Older Powhatan women were in charge of building homes. But everyone helped.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Line 3"/>
          <p:cNvSpPr/>
          <p:nvPr/>
        </p:nvSpPr>
        <p:spPr>
          <a:xfrm>
            <a:off x="609480" y="3200400"/>
            <a:ext cx="3962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5"/>
          <p:cNvSpPr/>
          <p:nvPr/>
        </p:nvSpPr>
        <p:spPr>
          <a:xfrm>
            <a:off x="5943600" y="3200400"/>
            <a:ext cx="1828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6"/>
          <p:cNvSpPr/>
          <p:nvPr/>
        </p:nvSpPr>
        <p:spPr>
          <a:xfrm>
            <a:off x="380880" y="3733920"/>
            <a:ext cx="1447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761760" y="914040"/>
            <a:ext cx="6933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First I plan what I will do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And look for what I need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Its name is </a:t>
            </a: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Super3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1028" descr="so02015_"/>
          <p:cNvPicPr/>
          <p:nvPr/>
        </p:nvPicPr>
        <p:blipFill>
          <a:blip r:embed="rId1"/>
          <a:stretch/>
        </p:blipFill>
        <p:spPr>
          <a:xfrm>
            <a:off x="5943600" y="4876920"/>
            <a:ext cx="1143000" cy="9540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29" descr="bd04907_"/>
          <p:cNvPicPr/>
          <p:nvPr/>
        </p:nvPicPr>
        <p:blipFill>
          <a:blip r:embed="rId2"/>
          <a:stretch/>
        </p:blipFill>
        <p:spPr>
          <a:xfrm>
            <a:off x="5486400" y="327672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30" descr="BD00028_"/>
          <p:cNvPicPr/>
          <p:nvPr/>
        </p:nvPicPr>
        <p:blipFill>
          <a:blip r:embed="rId3"/>
          <a:stretch/>
        </p:blipFill>
        <p:spPr>
          <a:xfrm>
            <a:off x="4952880" y="2362320"/>
            <a:ext cx="86220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6870600" cy="541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They bent young trees to form frames of their houses. The Powhatan covered the frames with layers of grass and bark. They made the roofs with sheets of bark.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Covert, Kim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  <a:ea typeface="Times New Roman"/>
              </a:rPr>
              <a:t>The Powhatan People.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1999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Line 1027"/>
          <p:cNvSpPr/>
          <p:nvPr/>
        </p:nvSpPr>
        <p:spPr>
          <a:xfrm>
            <a:off x="2057400" y="1066680"/>
            <a:ext cx="39625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028"/>
          <p:cNvSpPr/>
          <p:nvPr/>
        </p:nvSpPr>
        <p:spPr>
          <a:xfrm>
            <a:off x="838080" y="1752480"/>
            <a:ext cx="29718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029"/>
          <p:cNvSpPr/>
          <p:nvPr/>
        </p:nvSpPr>
        <p:spPr>
          <a:xfrm>
            <a:off x="762120" y="2971800"/>
            <a:ext cx="4572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030"/>
          <p:cNvSpPr/>
          <p:nvPr/>
        </p:nvSpPr>
        <p:spPr>
          <a:xfrm>
            <a:off x="838080" y="3581280"/>
            <a:ext cx="57150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031"/>
          <p:cNvSpPr/>
          <p:nvPr/>
        </p:nvSpPr>
        <p:spPr>
          <a:xfrm>
            <a:off x="4495680" y="4191120"/>
            <a:ext cx="1295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032"/>
          <p:cNvSpPr/>
          <p:nvPr/>
        </p:nvSpPr>
        <p:spPr>
          <a:xfrm>
            <a:off x="914400" y="4800600"/>
            <a:ext cx="3276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Review for Trash and Treas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6" name="Picture 3" descr="bd05735_"/>
          <p:cNvPicPr/>
          <p:nvPr/>
        </p:nvPicPr>
        <p:blipFill>
          <a:blip r:embed="rId1"/>
          <a:stretch/>
        </p:blipFill>
        <p:spPr>
          <a:xfrm>
            <a:off x="304920" y="403848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8088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What are “treasure” word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2057400" y="480060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I read each sentence and stop and decide if I found treasure words.  I write the treasure words in the correct place on my data collection 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6"/>
          <p:cNvSpPr/>
          <p:nvPr/>
        </p:nvSpPr>
        <p:spPr>
          <a:xfrm>
            <a:off x="666360" y="2685960"/>
            <a:ext cx="420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What are “trash” wo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7"/>
          <p:cNvSpPr/>
          <p:nvPr/>
        </p:nvSpPr>
        <p:spPr>
          <a:xfrm>
            <a:off x="1523520" y="3429000"/>
            <a:ext cx="51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ords I DO NOT need for my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1292760" y="2057400"/>
            <a:ext cx="38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Words I need for my resear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9"/>
          <p:cNvSpPr/>
          <p:nvPr/>
        </p:nvSpPr>
        <p:spPr>
          <a:xfrm>
            <a:off x="1748880" y="4114800"/>
            <a:ext cx="364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Times New Roman"/>
              </a:rPr>
              <a:t>How do I take not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cc"/>
                </a:solidFill>
                <a:latin typeface="Comic Sans MS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ke out your criteria sheet.  Review the project goals.  Did you meet all of the goal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 green sticker next to the goals you me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 yellow sticker next to the goals you are not sure if you me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a red sticker next to the goals you did not meet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Oval 4"/>
          <p:cNvSpPr/>
          <p:nvPr/>
        </p:nvSpPr>
        <p:spPr>
          <a:xfrm>
            <a:off x="3276720" y="2971800"/>
            <a:ext cx="609480" cy="5335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5"/>
          <p:cNvSpPr/>
          <p:nvPr/>
        </p:nvSpPr>
        <p:spPr>
          <a:xfrm>
            <a:off x="6248520" y="3962520"/>
            <a:ext cx="60948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6"/>
          <p:cNvSpPr/>
          <p:nvPr/>
        </p:nvSpPr>
        <p:spPr>
          <a:xfrm>
            <a:off x="3962520" y="4952880"/>
            <a:ext cx="609480" cy="533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800" y="106632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alk with your partner about how to improve any goals where you have a yellow        or a red       sticke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ake your improvement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ish your last Alpha-Smart response.  Go to “File 4” and answer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the question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60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Comic Sans MS"/>
              </a:rPr>
              <a:t>Review continued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2362320" y="2133720"/>
            <a:ext cx="609480" cy="53316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 5"/>
          <p:cNvSpPr/>
          <p:nvPr/>
        </p:nvSpPr>
        <p:spPr>
          <a:xfrm>
            <a:off x="4876920" y="2133720"/>
            <a:ext cx="6094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ample Journ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533520" y="1295280"/>
          <a:ext cx="7696080" cy="5651640"/>
        </p:xfrm>
        <a:graphic>
          <a:graphicData uri="http://schemas.openxmlformats.org/drawingml/2006/table">
            <a:tbl>
              <a:tblPr/>
              <a:tblGrid>
                <a:gridCol w="1676160"/>
                <a:gridCol w="889200"/>
                <a:gridCol w="2921040"/>
                <a:gridCol w="2209680"/>
              </a:tblGrid>
              <a:tr h="9907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Student Comm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M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Comment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66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4-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d I do what I was supposed to 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!! I built an Indian house,reserched,discuverd how their houses were built,discoverd what materials the Indians use to build their houses, and I wrote why I chose to build my shelter and why I built it that way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o I feel ok about my work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ES!!!! I think I did a great job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95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You met all of the goals of the project.  Reviewing is a very important part of all projects.  You did do a great job, Emma!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560" y="-228600"/>
            <a:ext cx="7848360" cy="1371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How Long Is A Crocodil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09480" y="914400"/>
          <a:ext cx="7772400" cy="499284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49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se our br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for f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o to the z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sk an exp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neak up on one and measure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in book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ocod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pt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nimal boo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cyclopedia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306360"/>
            <a:ext cx="687060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How Long Is A Crocodil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457200" y="1066680"/>
          <a:ext cx="7772400" cy="49928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4992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se our br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for f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o to the z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sk an exp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neak up on one and measure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in book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ocod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pt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nimal boo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cyclopedia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Read about crocodiles in </a:t>
                      </a:r>
                      <a:r>
                        <a:rPr b="1" lang="en-US" sz="2800" spc="-1" strike="noStrike" u="sng">
                          <a:solidFill>
                            <a:srgbClr val="008000"/>
                          </a:solidFill>
                          <a:uFillTx/>
                          <a:latin typeface="Comic Sans MS"/>
                        </a:rPr>
                        <a:t>World Book</a:t>
                      </a: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, 1993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Vol.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p. 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T/T 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68706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Comic Sans MS"/>
              </a:rPr>
              <a:t>How Long Is A Crocodile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09" name=""/>
          <p:cNvGraphicFramePr/>
          <p:nvPr/>
        </p:nvGraphicFramePr>
        <p:xfrm>
          <a:off x="609480" y="1219320"/>
          <a:ext cx="7772400" cy="4992480"/>
        </p:xfrm>
        <a:graphic>
          <a:graphicData uri="http://schemas.openxmlformats.org/drawingml/2006/table">
            <a:tbl>
              <a:tblPr/>
              <a:tblGrid>
                <a:gridCol w="2590920"/>
                <a:gridCol w="2590920"/>
                <a:gridCol w="2590560"/>
              </a:tblGrid>
              <a:tr h="4992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Use our brai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for fac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Go to the z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sk an expe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neak up on one and measure 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Look in books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Crocod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Reptile book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Animal book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Encyclopedia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Read about crocodiles in World Book, 19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Vol.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p. 1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T/T no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Babies = 9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American = 12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Nile = 8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Extension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6600cc"/>
                </a:solidFill>
                <a:latin typeface="Comic Sans MS"/>
              </a:rPr>
              <a:t>Famous People: K-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85800" y="914400"/>
          <a:ext cx="7772400" cy="527364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5341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With children, develop essential question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Identify and locate resour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ff0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Show its location and contents/ind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8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Read from resource: Young___by Adler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8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Students identify answers to question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8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Record treasure word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8000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Projec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EVIE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For each question under </a:t>
                      </a: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PLAN</a:t>
                      </a: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, determine if it was answered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Put a check or star beside the successful answer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ff"/>
                        </a:buClr>
                        <a:buFont typeface="Comic Sans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Comic Sans MS"/>
                        </a:rPr>
                        <a:t>Rubri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cc"/>
                </a:solidFill>
                <a:latin typeface="Comic Sans MS"/>
              </a:rPr>
              <a:t>Another Song for Super3…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66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Plan Do Review: to the tune of “Farmer in the Dell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view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When you have a question us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lan, </a:t>
            </a:r>
            <a:r>
              <a:rPr b="0" lang="en-US" sz="2800" spc="-1" strike="noStrike">
                <a:solidFill>
                  <a:srgbClr val="008000"/>
                </a:solidFill>
                <a:latin typeface="Comic Sans MS"/>
              </a:rPr>
              <a:t>Do, </a:t>
            </a: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Review !”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cc"/>
                </a:solidFill>
                <a:latin typeface="Comic Sans MS"/>
              </a:rPr>
              <a:t>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5335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Next I use what I have found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And show what I have learned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Its name is </a:t>
            </a: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Super3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1" name="Picture 4" descr="so02015_"/>
          <p:cNvPicPr/>
          <p:nvPr/>
        </p:nvPicPr>
        <p:blipFill>
          <a:blip r:embed="rId1"/>
          <a:stretch/>
        </p:blipFill>
        <p:spPr>
          <a:xfrm>
            <a:off x="6324480" y="5486400"/>
            <a:ext cx="1143000" cy="9540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5" descr="bd04907_"/>
          <p:cNvPicPr/>
          <p:nvPr/>
        </p:nvPicPr>
        <p:blipFill>
          <a:blip r:embed="rId2"/>
          <a:stretch/>
        </p:blipFill>
        <p:spPr>
          <a:xfrm>
            <a:off x="4495680" y="4764240"/>
            <a:ext cx="175284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BD00028_"/>
          <p:cNvPicPr/>
          <p:nvPr/>
        </p:nvPicPr>
        <p:blipFill>
          <a:blip r:embed="rId3"/>
          <a:stretch/>
        </p:blipFill>
        <p:spPr>
          <a:xfrm>
            <a:off x="2895480" y="4154400"/>
            <a:ext cx="86220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68706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dff"/>
                </a:solidFill>
                <a:latin typeface="Comic Sans MS"/>
              </a:rPr>
              <a:t>Credi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isenberg and Berkowitz, The Big6 Information Problem-Solving Proces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nnison, JaDene, LMS. Butterfly Lesso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eser, Emmy. ODU Graduate LMS Studen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kiles, P, LMS. Trash and Treasure PowerPoint Lesson. Based on the work of Barbara Jansen, LM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ool, Mary Wool, GRT, Crocodile and Osprey Lesson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ww.big6.co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73440"/>
            <a:ext cx="6870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ean Koc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   </a:t>
            </a:r>
            <a:r>
              <a:rPr b="0" lang="en-US" sz="3200" spc="-1" strike="noStrike">
                <a:solidFill>
                  <a:srgbClr val="00b200"/>
                </a:solidFill>
                <a:latin typeface="Comic Sans MS"/>
              </a:rPr>
              <a:t>j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koch@vbschools.co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mmy Lies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3200" spc="-1" strike="noStrike" u="sng">
                <a:solidFill>
                  <a:srgbClr val="00b200"/>
                </a:solidFill>
                <a:uFillTx/>
                <a:latin typeface="Comic Sans MS"/>
                <a:hlinkClick r:id="rId2"/>
              </a:rPr>
              <a:t>ejdlieser@att.ne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228240" y="380880"/>
            <a:ext cx="838188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Finally I review my 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And make sure it’s my best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lan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8000"/>
                </a:solidFill>
                <a:latin typeface="Comic Sans MS"/>
              </a:rPr>
              <a:t>do,</a:t>
            </a: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 and 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review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Comic Sans MS"/>
              </a:rPr>
              <a:t>Its name is </a:t>
            </a:r>
            <a:r>
              <a:rPr b="1" lang="en-US" sz="3200" spc="-1" strike="noStrike">
                <a:solidFill>
                  <a:srgbClr val="6600cc"/>
                </a:solidFill>
                <a:latin typeface="Comic Sans MS"/>
              </a:rPr>
              <a:t>Super3-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Comic Sans MS"/>
              </a:rPr>
              <a:t>Words by D. Cazares, S. Hensley, and K. Jordan: Students at the Univ. of Texas Graduate School of Library and Information Science, Austin, TX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5" name="Picture 4" descr="so02015_"/>
          <p:cNvPicPr/>
          <p:nvPr/>
        </p:nvPicPr>
        <p:blipFill>
          <a:blip r:embed="rId1"/>
          <a:stretch/>
        </p:blipFill>
        <p:spPr>
          <a:xfrm>
            <a:off x="7543800" y="3008160"/>
            <a:ext cx="1143000" cy="9543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5" descr="bd04907_"/>
          <p:cNvPicPr/>
          <p:nvPr/>
        </p:nvPicPr>
        <p:blipFill>
          <a:blip r:embed="rId2"/>
          <a:stretch/>
        </p:blipFill>
        <p:spPr>
          <a:xfrm>
            <a:off x="5715000" y="2286000"/>
            <a:ext cx="1752480" cy="11430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6" descr="BD00028_"/>
          <p:cNvPicPr/>
          <p:nvPr/>
        </p:nvPicPr>
        <p:blipFill>
          <a:blip r:embed="rId3"/>
          <a:stretch/>
        </p:blipFill>
        <p:spPr>
          <a:xfrm>
            <a:off x="4572000" y="1600200"/>
            <a:ext cx="861840" cy="84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cc"/>
                </a:solidFill>
                <a:latin typeface="Comic Sans MS"/>
              </a:rPr>
              <a:t>Teaching K-2 Students Super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00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cc"/>
                </a:solidFill>
                <a:latin typeface="Comic Sans MS"/>
              </a:rPr>
              <a:t>Some ideas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Comic Sans MS"/>
              </a:rPr>
              <a:t>Super3</a:t>
            </a:r>
            <a:br>
              <a:rPr sz="4400"/>
            </a:br>
            <a:r>
              <a:rPr b="0" lang="en-US" sz="4000" spc="-1" strike="noStrike">
                <a:solidFill>
                  <a:srgbClr val="6600cc"/>
                </a:solidFill>
                <a:latin typeface="Comic Sans MS"/>
              </a:rPr>
              <a:t>Big6 for K-2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PL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8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DO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Comic Sans MS"/>
              </a:rPr>
              <a:t>REVIEW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09800" y="1828800"/>
            <a:ext cx="37717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L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437920"/>
            <a:ext cx="76960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do I need to do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do I need to find out?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TD)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can I use to find what I need?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(ISS)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5" descr="BD00028_"/>
          <p:cNvPicPr/>
          <p:nvPr/>
        </p:nvPicPr>
        <p:blipFill>
          <a:blip r:embed="rId1"/>
          <a:stretch/>
        </p:blipFill>
        <p:spPr>
          <a:xfrm>
            <a:off x="4191120" y="1905120"/>
            <a:ext cx="861840" cy="84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Comic Sans MS"/>
              </a:rPr>
              <a:t>PLAN</a:t>
            </a: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“Wh” Question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90720" y="2362320"/>
            <a:ext cx="7772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at – Object or Th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o – Per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re –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en –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Why – Reas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How -- Proces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3:18:02Z</dcterms:created>
  <dc:creator>Pete Koch</dc:creator>
  <dc:description/>
  <dc:language>en-US</dc:language>
  <cp:lastModifiedBy>User</cp:lastModifiedBy>
  <dcterms:modified xsi:type="dcterms:W3CDTF">2011-03-04T21:12:03Z</dcterms:modified>
  <cp:revision>271</cp:revision>
  <dc:subject/>
  <dc:title>Super3 </dc:title>
</cp:coreProperties>
</file>